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7F1-5FBE-4C29-A264-03875F21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61E-20EA-4056-BE7C-F4761EE8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587-1B23-498D-8D86-4D3C3A3C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43F-8F4D-4C5B-A361-374EBB1A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65C-8C03-4271-BB1D-A738831E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E00D-D9AB-4349-B29B-B10F4B8E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6C49-D44C-4CFD-8FBE-F5C7CCB6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889-4654-4B88-93C2-6D67B7FB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E31-94A2-47A1-9A30-415A6BCD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14A1-338D-4073-800E-0DA7D4D3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97C-81B4-4E2B-993B-6E4F3C00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F1A6-9461-4CAB-A519-AC1A1CA2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38E9-B38E-44B7-BFB0-36EE46D9461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76280" y="765000"/>
            <a:ext cx="8191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380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رع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الرع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ذكر الرعد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4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محم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مال قدرة الله تعال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14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ية الوح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البع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استدلال بتوحيد الربوبية على توحيد الألوه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5"/>
          <p:cNvCxnSpPr/>
          <p:nvPr/>
        </p:nvCxnSpPr>
        <p:spPr>
          <a:xfrm flipH="1">
            <a:off x="8458920" y="380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4160" y="35733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صفات السعداء والأشقيا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2T10:16:42Z</dcterms:modified>
  <cp:revision>1807</cp:revision>
  <dc:subject/>
  <dc:title>عرض تقديمي في PowerPoint</dc:title>
</cp:coreProperties>
</file>